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D354-83D5-45E9-A49C-702D1B97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0A3-BF2E-4C4F-A518-6277F99E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A5A9-CEE8-49EA-BD96-6A6C253A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35CC-7F89-44E3-84EA-A8ECF544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2A6E-BE22-495A-8F2F-64E26259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C2E4-B4D6-4B2A-BC60-B42908A3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EE5B-B743-4CC5-84C3-1667C6ED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AF7B-3751-48A0-8165-9B6FCE6D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E49A-90B8-4FE7-A522-7A0BB88D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91E-5FFC-4C92-BBBD-DEF865A5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99AF-0783-469D-AD59-5B42F6C0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853-3D3E-465A-A74A-A0C949F7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89F8-33AC-47E9-8ED3-1EF6A54FC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62 V blízkosti Spasiteľov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lízkosti Spasiteľo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život služby žiť chc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stý a bezpečný môž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 iba u neho, v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lízkosti Spasiteľo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úžim byť, on je môj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život zasvätím jem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svoje srdce mu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lízkosti Spasiteľo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ám strach z odlúč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lu mi dávajú je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dherné zasľúb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lízkosti Spasiteľo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úžim byť, on je môj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život zasvätím jem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svoje srdce mu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lízkosti Spasiteľo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jímam milosti dar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šad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chce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ňo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zves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šíri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;</a:t>
            </a:r>
            <a:br>
              <a:rPr sz="44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ám dá práci tej z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lízkosti Spasiteľo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úžim byť, on je môj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život zasvätím jem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svoje srdce mu d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2T11:48:59Z</dcterms:modified>
  <cp:revision>20</cp:revision>
  <dc:subject/>
  <dc:title>Je veľký náš Pán, on slávy je Kráľ Nech do všetkých strán  spev vrúcnych znie chvál.</dc:title>
</cp:coreProperties>
</file>